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E6E-BEFE-4276-9FF7-48BD3D1C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AAA-0A50-4884-88A4-E052A035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A05-C0FC-4DB2-B6A1-BDDCDF6C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83F-76DF-4F18-A95B-860615E6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00CE-CE09-4A27-B4CE-0B933ED2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CA0C-BB2F-4BB9-B1A6-4FA603D5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7417-78C6-45BC-B33F-0190CF0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64E8-E81D-4438-8E2B-61E6F3B6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2A45-BFE3-47E6-A973-DC60ECE6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0879-98C5-49D1-BD6C-BC73E2E6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DBB-403F-4955-8827-8103083A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22C-A986-408A-A8D5-1FC8BB92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A66D-E43F-497F-AFE6-F05608DD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DAF1-3254-4362-BF35-EB04B836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911A-B8B3-45FD-9CBB-358F5579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56A8-1C10-4182-BE3F-0F5B23F8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3A76-8329-4A1E-8CAD-0352F6C6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C1C-9AD7-4726-9B27-E2413A4C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586-1D6A-4071-A353-544AB642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8A4-E011-4F99-92C2-7F8D924C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DA1-B509-434C-9371-D89CEDCA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E1B-82A7-49FE-A988-5D1BA9BF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09C-B6FF-486E-92FF-DDB0A4A0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792-3B53-4D45-B19B-F49F1FE4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A820-892E-4E4E-91AA-54DE4A99C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FEFA-E374-4AB6-8679-1377CC44E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../samples_russian_project/school-sector.relarn.ru/prava/stavka/3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../samples_russian_project/school-sector.relarn.ru/prava/stavka/4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Тема:</a:t>
            </a:r>
            <a:br>
              <a:rPr sz="5400"/>
            </a:br>
            <a:br>
              <a:rPr sz="48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8820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Цель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пособствовать включению учащихся в процесс освоения и воспитания уважения к правам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5040360" cy="223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105264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52125"/>
                </a:solidFill>
                <a:latin typeface="Arial Black"/>
              </a:rPr>
              <a:t>«Ваши права, дети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Родители и другие члены семьи не должны нарушать, ограничивать права ребенка.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Типичные случаи нарушени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2492280"/>
            <a:ext cx="8666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зическое или психологическое насил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корбление или злоупотребление пра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сутствие заботы или небрежное обращ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убое обращ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сплуата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ксуальные злоупотребления со стороны родителей, законных опекунов или любого другого лица, заботящегося о ребе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итуация 1: В нашем кинотеатре идут </a:t>
            </a:r>
            <a:r>
              <a:rPr b="1" lang="en-US" sz="2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фильмы о любви</a:t>
            </a:r>
            <a:r>
              <a:rPr b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. А детям до 16 лет их смотреть нельзя. Нарушается  ли право на получение информации 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76345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итуация 2 : Школьный совет принял решение, чтобы все </a:t>
            </a:r>
            <a:r>
              <a:rPr b="1" lang="en-US" sz="2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ходили в школу в форме</a:t>
            </a:r>
            <a:r>
              <a:rPr b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. А я - против. Нарушаются ли мои права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63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Анкет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981000"/>
            <a:ext cx="8007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1.Понравилось ли тебе мероприят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2. Стал ли ты более четко разбираться в понятиях и проблемах, затронутых сегодн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3. Много ли тебе это дал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4. Сможешь ли ты в дальнейшем применять данные зн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5. Какие бы еще проблемы ты хотел бы обсудить на классном час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Black"/>
              </a:rPr>
              <a:t>Право человека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-  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это охраняемая,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обеспечиваемая государством,</a:t>
            </a: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узаконенная возможность что – то делать, осуществлять, это то, что соответствует природе человека и разрешено законам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4000" y="3429000"/>
            <a:ext cx="8424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вобода человек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это отсутствие каких-  либо ограничений, стеснений в чем – то          (деятельности, поведении). Она нужна, потребна, но не всегда допускается, как мы знаем, властью, государством, зако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5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1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1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еждународные документы о правах человек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42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екла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клар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 от лат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aratio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вление, провозглашение) не имеет обязательной силы, это -  рекомендация. В ней провозглашаются основные принципы, программные поло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Конв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венц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лат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onventio- договор, соглаш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дународный договор, имеющий обязательную силу для всех государств, его подписавших (присоединившихс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ОРГАНИЗАЦИЯ ОБЪЕДИНЕННЫХ НАЦИЙ (ООН),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международная организация государств, созданная в целях поддержания и укрепления мира, безопасности и развития сотрудничества между государствами. </a:t>
            </a:r>
            <a:br>
              <a:rPr sz="2000"/>
            </a:b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ООН учреждена </a:t>
            </a:r>
            <a:r>
              <a:rPr b="0" lang="ru-RU" sz="2000" spc="-1" strike="noStrike">
                <a:solidFill>
                  <a:srgbClr val="c52125"/>
                </a:solidFill>
                <a:latin typeface="Arial Black"/>
              </a:rPr>
              <a:t>26 июня 1945</a:t>
            </a: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 на Конференции Объединенных Наций в Сан - Франциско (США)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586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ными органами ООН являютс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ет Безопасности, Генеральная Ассамблея, Секретариат, Экономический и социальный совет (ЭКОСОС), Совет по опеке, Международный су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лаг О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3024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1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1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Black"/>
              </a:rPr>
              <a:t>ВСЕОБЩАЯ ДЕКЛАРАЦИЯ ПРАВ ЧЕЛОВЕКА.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нята Генеральной Ассамблеей ООН </a:t>
            </a:r>
            <a:r>
              <a:rPr b="1" lang="en-US" sz="2400" spc="-1" strike="noStrike">
                <a:solidFill>
                  <a:srgbClr val="c52125"/>
                </a:solidFill>
                <a:latin typeface="Arial"/>
              </a:rPr>
              <a:t>10 декабря 194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Провозглашает права личности, гражданские и политические права и свободы (равенство всех перед законом, право каждого на свободу и личную неприкосновенность, свободу совести и др.), а также социально-экономические права (на труд, социальное обеспечение, отдых и д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резолюции Генеральной Ассамблеи ООН (1948) 10 декабря отмечается как День прав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95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1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1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2125"/>
                </a:solidFill>
                <a:latin typeface="Arial Black"/>
              </a:rPr>
              <a:t>20 ноября 1989 г. 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Генеральная Ассамблея ООН отмечала тридцатилетие </a:t>
            </a:r>
            <a:r>
              <a:rPr b="1" lang="en-US" sz="2800" spc="-1" strike="noStrike">
                <a:solidFill>
                  <a:srgbClr val="ffff66"/>
                </a:solidFill>
                <a:latin typeface="Arial Black"/>
              </a:rPr>
              <a:t>Декларации прав ребенка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; в этот же день Ассамблея единодушно проголосовала за принятие </a:t>
            </a:r>
            <a:r>
              <a:rPr b="1" lang="en-US" sz="2800" spc="-1" strike="noStrike">
                <a:solidFill>
                  <a:srgbClr val="ffff66"/>
                </a:solidFill>
                <a:latin typeface="Arial Black"/>
              </a:rPr>
              <a:t>Конвенции ООН о правах ребенка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891864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тупила в силу 2 сентября 1990 г. По состоянию на 1 апреля 1992 г. - 115 участников. Ратифицирована Верховным Советом СССР 13 июля 1990 г. Вступила в силу для СССР 15 сентября 1990 г. Россия, как правопреемница СССР, сохраняет обязательства по Конвен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Главная цель Конвенции- максимальная защита интересов ребен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59280" y="2852280"/>
            <a:ext cx="34560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4868640"/>
            <a:ext cx="4316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ение активного участия в жизни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4723920"/>
            <a:ext cx="3635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щ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852280"/>
            <a:ext cx="39290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жи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3789360"/>
            <a:ext cx="486000" cy="863640"/>
          </a:xfrm>
          <a:prstGeom prst="downArrow">
            <a:avLst>
              <a:gd name="adj1" fmla="val 50000"/>
              <a:gd name="adj2" fmla="val 4442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1916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1916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3789360"/>
            <a:ext cx="485640" cy="863640"/>
          </a:xfrm>
          <a:prstGeom prst="downArrow">
            <a:avLst>
              <a:gd name="adj1" fmla="val 50000"/>
              <a:gd name="adj2" fmla="val 444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523360" cy="33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«… ребенком является каждое человеческое существо до достижения 18- летнего возраста…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56000" y="5013000"/>
            <a:ext cx="598968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венция о правах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ава несовершеннолетних детей ( до 18 лет) определяются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77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венцией о правах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мейным кодексом РБ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едеральным законом  « Об основных гарантиях прав ребен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35:55Z</dcterms:created>
  <dc:creator>Лидер</dc:creator>
  <dc:description/>
  <dc:language>en-US</dc:language>
  <cp:lastModifiedBy>User</cp:lastModifiedBy>
  <dcterms:modified xsi:type="dcterms:W3CDTF">2009-11-16T08:01:16Z</dcterms:modified>
  <cp:revision>22</cp:revision>
  <dc:subject/>
  <dc:title>Международные документы о правах человека:</dc:title>
</cp:coreProperties>
</file>